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3B7C-9666-4A71-B77D-0992C4572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A9F9-B8CE-4D76-8A22-A0B86E38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F798-EA13-4732-8C1F-7BE9D040B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439B-7920-423C-B92D-203C64C6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7336-CD47-4B2D-8586-CBDE755D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1CB2-E04D-4292-A46F-BD1DCDD2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79E1-85D1-417C-BECF-31CFB1CA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F583-F548-42A0-8B82-19A87437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34D3-6784-4D3C-B737-4057BFC8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37BA-D043-4393-BF9D-5E1BE79C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D86A-9D23-4C28-B306-60AA98D7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BC59-0C30-4CF6-B1E3-034170EC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CF6B-ADD8-4D2A-B6EB-E7DC010C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9A83-BE30-4BE1-80BB-6073ACD0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6365-05E6-420C-ADB5-328D8A20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E3B6-4C38-4957-8D5E-F9E003973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C256-772B-4567-B390-30C5018D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C539-9F7C-471F-BDA5-60582F4E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E916-B219-4FA3-9AE7-B26BAEB8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677A-2E35-4913-B9A5-D585154A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32C3-6D58-48B8-B4C0-968C1220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8F8E-AB50-4D20-BB57-9CFB0A0B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1564-6F91-4CA2-9CEE-5EC71E58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1CA8-43A3-496A-8079-FBC72530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802E-533A-4600-8BAC-1EC7D2C986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C232-01F6-4B43-9A39-B25B8CA7C9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i Mansion Hermos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65640" y="1636560"/>
            <a:ext cx="291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18288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Olivia Salk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19320" y="2666880"/>
            <a:ext cx="4495680" cy="3046680"/>
          </a:xfrm>
          <a:prstGeom prst="rect">
            <a:avLst/>
          </a:prstGeom>
          <a:ln w="0">
            <a:noFill/>
          </a:ln>
        </p:spPr>
      </p:pic>
    </p:spTree>
  </p:cSld>
  <p:transition advTm="4000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uarto de invitado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l Coci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880" y="632448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 cocina bast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l Comed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523880" y="63244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 comedor es glori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l baño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705360" cy="3692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76720" y="68580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e es mi cuatro de b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fabulo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l cuarto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6324480" cy="3481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600200" y="525780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e es mi cuar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l Jardin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6324480" cy="3481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010280" y="1752480"/>
            <a:ext cx="19051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 jardin hermo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l Patio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257800" cy="2894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14400" y="533412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atio es relaj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os niños cuarto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791320" cy="39020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l Columpio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6172200" cy="39304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7:39:47Z</dcterms:created>
  <dc:creator>salkindoli</dc:creator>
  <dc:description/>
  <dc:language>en-US</dc:language>
  <cp:lastModifiedBy>salkindoli</cp:lastModifiedBy>
  <dcterms:modified xsi:type="dcterms:W3CDTF">2011-10-25T16:07:31Z</dcterms:modified>
  <cp:revision>5</cp:revision>
  <dc:subject/>
  <dc:title>Slide 1</dc:title>
</cp:coreProperties>
</file>